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814B-A43B-40A9-B597-F1826EBC0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311F-789A-4078-9910-A796DDAA77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B5D5-9182-422A-8CEA-711F91CD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4149-7536-4D6F-A533-782539B4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3576-57F5-48F3-A151-0527C944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770E-7609-4937-8346-FD9C07E3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59E5-6989-4F48-A147-0CA4E569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947F-73BE-44CE-9EDD-9D1A9A75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2D7C-273F-4866-B019-F4952069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6C4C-3BFD-4D0A-B1F6-68DE3BA9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3B9C-1C01-4109-B555-FE59D8B2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CA33-7F13-4963-87C4-9026A7F9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5221-482D-472C-A8A9-4AA6BF9D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5445-3847-45E0-963C-C495A25A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EAAD-7FE2-410B-B39E-71DFDA53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02BE-AB62-42A0-978B-14481FEE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CB3A-1E38-4E0D-BC1E-CA992E86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7C64-D682-4C74-BFF0-C609EE34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6532-7652-4474-849C-5222C10A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E11B-2425-4696-BB8F-E0CAB94D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047-9524-45D3-9629-93072B78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8D18-D713-41D2-88E3-E40EEC4B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5D94-4EC8-47E2-B27C-EACF7899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CA8F-8B4C-48FA-8223-2A00EBD4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6E44-6425-46BE-9053-23571A62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E2B-F257-46E5-B999-D37E358F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2BAB-17FF-49B9-957D-4212F612E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3B20-CB7D-41A0-9CE7-72633C2BA6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191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b7"/>
                </a:solidFill>
                <a:latin typeface="Comic Sans MS"/>
              </a:rPr>
              <a:t>Idioms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dioms are phrases which people use in everyday language which do not make sense literally but we understand what they me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Let’s see, if you understand the peculiar meaning of some common idioms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5" descr="idiom_home"/>
          <p:cNvPicPr/>
          <p:nvPr/>
        </p:nvPicPr>
        <p:blipFill>
          <a:blip r:embed="rId1"/>
          <a:stretch/>
        </p:blipFill>
        <p:spPr>
          <a:xfrm>
            <a:off x="2050920" y="2205000"/>
            <a:ext cx="517212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o can you define ‘idiom’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Comic Sans MS"/>
              </a:rPr>
              <a:t>An </a:t>
            </a:r>
            <a:r>
              <a:rPr b="1" lang="en-US" sz="2400" spc="-1" strike="noStrike" u="sng">
                <a:solidFill>
                  <a:srgbClr val="ffffb7"/>
                </a:solidFill>
                <a:uFillTx/>
                <a:latin typeface="Comic Sans MS"/>
              </a:rPr>
              <a:t>idiom</a:t>
            </a:r>
            <a:r>
              <a:rPr b="1" lang="en-US" sz="2400" spc="-1" strike="noStrike">
                <a:solidFill>
                  <a:srgbClr val="ffffb7"/>
                </a:solidFill>
                <a:latin typeface="Comic Sans MS"/>
              </a:rPr>
              <a:t> is an expression that has a meaning apart from the meanings of its individual words.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r example: It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 raining cats and dogs. Its literal meaning suggests that cats and dogs are falling from the sky. We interpret it to mean that it is raining har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ther Exam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o stick your neck out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is to say or do something that is bold and a bit dangerous. A similar idiom that is used for slightly more dangerous situations is to "go out on a limb." In both idioms, the idea is that you put yourself in a vulnerable 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o break the ice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is to be the first one to say or do something, with the expectation that others will then follow. Another idiom that means something similar is "get the ball rolling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o get long in the tooth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means to get old. The expression was originally used when referring to horses since gums recede with age. So the longer the teeth a horse has, the older it is said to b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o have a chip on one's shoulder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is usually an expression to describe a person who acts, as you say, rudely or aggressively, but also in a manner that could be described as "aggressively defensive." The person seems always ready for a figh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BS01204_"/>
          <p:cNvPicPr/>
          <p:nvPr/>
        </p:nvPicPr>
        <p:blipFill>
          <a:blip r:embed="rId1"/>
          <a:stretch/>
        </p:blipFill>
        <p:spPr>
          <a:xfrm>
            <a:off x="7812000" y="76500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Food for thought</a:t>
            </a:r>
            <a:br>
              <a:rPr sz="4400"/>
            </a:br>
            <a:r>
              <a:rPr b="1" lang="en-GB" sz="2000" spc="-1" strike="noStrike">
                <a:solidFill>
                  <a:srgbClr val="ffffb7"/>
                </a:solidFill>
                <a:latin typeface="Comic Sans MS"/>
              </a:rPr>
              <a:t>These idioms are all about food. Can you explain what they really mean? 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aking two bits of the che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elling like hot ca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laying goosebe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oing bana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bananastoon"/>
          <p:cNvPicPr/>
          <p:nvPr/>
        </p:nvPicPr>
        <p:blipFill>
          <a:blip r:embed="rId1"/>
          <a:stretch/>
        </p:blipFill>
        <p:spPr>
          <a:xfrm>
            <a:off x="6183360" y="2394000"/>
            <a:ext cx="1396800" cy="1041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waffles"/>
          <p:cNvPicPr/>
          <p:nvPr/>
        </p:nvPicPr>
        <p:blipFill>
          <a:blip r:embed="rId2"/>
          <a:stretch/>
        </p:blipFill>
        <p:spPr>
          <a:xfrm>
            <a:off x="6297480" y="3716280"/>
            <a:ext cx="184464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Century Gothic"/>
              </a:rPr>
              <a:t>Feel like a fish out of water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Century Gothic"/>
              </a:rPr>
              <a:t>Be like a fish out of water</a:t>
            </a:r>
            <a:br>
              <a:rPr sz="40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5" descr="fish_out_of_water"/>
          <p:cNvPicPr/>
          <p:nvPr/>
        </p:nvPicPr>
        <p:blipFill>
          <a:blip r:embed="rId1"/>
          <a:stretch/>
        </p:blipFill>
        <p:spPr>
          <a:xfrm>
            <a:off x="6877080" y="260280"/>
            <a:ext cx="1498680" cy="12193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8"/>
          <p:cNvSpPr/>
          <p:nvPr/>
        </p:nvSpPr>
        <p:spPr>
          <a:xfrm>
            <a:off x="684360" y="1923480"/>
            <a:ext cx="799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n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el uncomfortable because you are in an unfamiliar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el like a fish out of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you feel awkward or uncomfortable because you are in an unusual or unfamiliar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don't like going to the big parties they have. I alway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el like a fish out of wat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dd is a country boy raised in a small town in Northumberland an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s like a fish out of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en he visited bustling London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What does this mean really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shake_a_lega"/>
          <p:cNvPicPr/>
          <p:nvPr/>
        </p:nvPicPr>
        <p:blipFill>
          <a:blip r:embed="rId1"/>
          <a:stretch/>
        </p:blipFill>
        <p:spPr>
          <a:xfrm>
            <a:off x="2987640" y="2060640"/>
            <a:ext cx="3432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And thi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5" descr="hangon"/>
          <p:cNvPicPr/>
          <p:nvPr/>
        </p:nvPicPr>
        <p:blipFill>
          <a:blip r:embed="rId1"/>
          <a:stretch/>
        </p:blipFill>
        <p:spPr>
          <a:xfrm>
            <a:off x="2987640" y="1341360"/>
            <a:ext cx="331308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And what about this on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Turn Someone Off"/>
          <p:cNvPicPr/>
          <p:nvPr/>
        </p:nvPicPr>
        <p:blipFill>
          <a:blip r:embed="rId1"/>
          <a:stretch/>
        </p:blipFill>
        <p:spPr>
          <a:xfrm>
            <a:off x="3203640" y="1916280"/>
            <a:ext cx="314460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Numbers up</a:t>
            </a:r>
            <a:br>
              <a:rPr sz="4000"/>
            </a:br>
            <a:r>
              <a:rPr b="1" lang="en-GB" sz="2000" spc="-1" strike="noStrike">
                <a:solidFill>
                  <a:srgbClr val="ffffb7"/>
                </a:solidFill>
                <a:latin typeface="Comic Sans MS"/>
              </a:rPr>
              <a:t>Lots of idioms are about numbers. See if you can fill in the missing numbers in these says. What do they mean?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2060280"/>
            <a:ext cx="762156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ressed up to the 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lking  ___ to the doz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e in a 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ying ______ fid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_______ hea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Heaven"/>
          <p:cNvPicPr/>
          <p:nvPr/>
        </p:nvPicPr>
        <p:blipFill>
          <a:blip r:embed="rId1"/>
          <a:stretch/>
        </p:blipFill>
        <p:spPr>
          <a:xfrm>
            <a:off x="6588000" y="4149720"/>
            <a:ext cx="2097360" cy="2157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Animal Cracke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16280"/>
            <a:ext cx="65422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’s raining ____ and dog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ve got a ____ in my thro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se are just ______t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’s taken the lion 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can smell a 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Crocodile-tears"/>
          <p:cNvPicPr/>
          <p:nvPr/>
        </p:nvPicPr>
        <p:blipFill>
          <a:blip r:embed="rId1"/>
          <a:stretch/>
        </p:blipFill>
        <p:spPr>
          <a:xfrm>
            <a:off x="7020000" y="404640"/>
            <a:ext cx="1376280" cy="1729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mly0460l"/>
          <p:cNvPicPr/>
          <p:nvPr/>
        </p:nvPicPr>
        <p:blipFill>
          <a:blip r:embed="rId2"/>
          <a:stretch/>
        </p:blipFill>
        <p:spPr>
          <a:xfrm>
            <a:off x="6372360" y="4221000"/>
            <a:ext cx="2411280" cy="2394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9:29:36Z</dcterms:created>
  <dc:creator>Jane Armstrong</dc:creator>
  <dc:description/>
  <dc:language>en-US</dc:language>
  <cp:lastModifiedBy>Harnett County Schools</cp:lastModifiedBy>
  <dcterms:modified xsi:type="dcterms:W3CDTF">2014-01-23T16:00:28Z</dcterms:modified>
  <cp:revision>2</cp:revision>
  <dc:subject/>
  <dc:title>Idioms</dc:title>
</cp:coreProperties>
</file>